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9F4-0CDE-4E3F-8B34-D646D500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E21-36D0-4D22-80E7-B2DE785F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197-3618-4D3E-BBC6-E014C0AE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36C-A63C-47CF-BDF8-58D43A49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6E2-1CC7-4BF4-B40B-2D2D569E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477-C53C-4FA6-BE63-B93161E8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F90-D606-4E77-830A-993FA27B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466-24A5-434B-9C46-7E66EFC6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DDF-CD2B-40B8-8A2A-E2BE2554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5F0-EFAF-45B3-B47A-8DB52971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A38-60B9-4B04-97B0-B252EC85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C29-75A5-4EF6-B568-1FF5B034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186A-E8F7-4A53-AB49-8FD27F3326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520" y="1447920"/>
            <a:ext cx="602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y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ot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posure 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3317760"/>
            <a:ext cx="7391520" cy="568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114800"/>
            <a:ext cx="6781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3336840"/>
            <a:ext cx="716292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162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3349800"/>
            <a:ext cx="716292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238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3235320"/>
            <a:ext cx="7162920" cy="727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086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2911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467480" cy="2911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895480" y="3809880"/>
            <a:ext cx="242568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219708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257800" y="31240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7086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467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9608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19520" y="441972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41972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18148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518148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6:02:45Z</dcterms:modified>
  <cp:revision>215</cp:revision>
  <dc:subject/>
  <dc:title>Slide 1</dc:title>
</cp:coreProperties>
</file>